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1AE8-16E7-4E56-963B-26FAD903E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utcaster.com/photo/801160119-Plant-growth-Stages-of-the-plant-developm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mblr.com/tagged/auxins?language=fr_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5e.plantphys.net/article.php?ch=0&amp;id=3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covermagazine.com/2003/jan/botany#.Ua6dzBzsSj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 plant on right genetically engineered to produce more cytokin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sci.ohio-state.edu/~plantbio/osu_pcmb/pcmb_lab_resources/pcmb101_activities/hormones/plnt_grth_hrmns_fruit_rip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igitalwebb.com/DownloadPreA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how.com/list_7018530_factors-germination-mung-beans-grow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vironmentplants.blogspot.c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163.16.28.248/bio/activelearner/36/ch36c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reparetobeamazed.blogspot.ca/2011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en.wikipedia.org/wiki/Thigmotrop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3D5-0F30-4793-BD4D-C6B3644D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251-270C-40C3-AF9C-F4F6736D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F588-1DA1-4362-8EB7-97DBCCFD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E235-305F-4430-8E6D-2E1A9DED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E9C-8CC2-479B-900F-9CA8F9EB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0B3-1DAE-403B-BB06-9E23960F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26AD-178E-46D0-9235-10E58AB8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849-F5C1-4BCE-A124-15282745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97B-D788-4554-8310-DDAD179B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B45-3F7A-491B-ADBC-B2CFAE70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3E56-3A9F-4A3C-8127-84273E7D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762D-5C7F-414F-8194-79773787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E802-72A9-45BB-BAFE-475CFCA2B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x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cell 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on “dark side” causing phototrop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86200" y="1878120"/>
            <a:ext cx="48769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erell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s cell division &amp; elon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s role in flowering &amp; fruit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bberellin spray induces fruit production &amp; elongates fruit stems in gr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749160"/>
            <a:ext cx="777240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ki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growing tissues such as meristems, young leaves, growing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cell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ayed on mushrooms &amp; lettuce to prevent spo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127320" y="609480"/>
            <a:ext cx="2887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yl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that is produced at various stages of plant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stress hormo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timulates fruit ripening, and many other developmental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ylene levels controlled so that fruit is ripe when sold at the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844560"/>
            <a:ext cx="77724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cisic Acid (AB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its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s dormancy in seeds and leaf b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rise in response to temperature &amp; light changes (e.g., seasonal 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used on plants that are being sh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i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19440" y="1981080"/>
            <a:ext cx="370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environmental factors affect plant grow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Facto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factor that you studied in your la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the growth of a plant in response to a 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93960" y="3124080"/>
            <a:ext cx="528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87640" y="1981080"/>
            <a:ext cx="496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6680" y="1981080"/>
            <a:ext cx="592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gmo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49440" y="1981080"/>
            <a:ext cx="424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Growth Reg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1:39:58Z</dcterms:created>
  <dc:creator>rubina khan</dc:creator>
  <dc:description/>
  <dc:language>en-US</dc:language>
  <cp:lastModifiedBy>rubina khan</cp:lastModifiedBy>
  <dcterms:modified xsi:type="dcterms:W3CDTF">2013-06-05T02:28:52Z</dcterms:modified>
  <cp:revision>41</cp:revision>
  <dc:subject/>
  <dc:title>Plant Growth</dc:title>
</cp:coreProperties>
</file>